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14F-C62D-40F4-B4BA-CED581B4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584-3E80-48AD-BE93-A8EDE5E1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6FB-B92A-4977-8D93-745D3536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72B-7010-42C2-A623-D8715EFE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E54-5C47-4345-B795-438562C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2F2-60A7-40E3-8454-13489ED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0DD-0EAD-4EB8-A731-BCAB6D79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2B6-2ABA-475D-8295-BA29449F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178-715E-4424-8743-1C6DFEBA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E6F-1A9F-4314-A672-CA7E976C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835-E716-4B6F-A658-87B30FF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9BA-DE05-427E-9CB6-23A0753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FA4B-27AE-4FB6-9E60-03957DA81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engshuigooddeeds.files.wordpress.com/2011/04/smiley_big_smile2.gif&amp;imgrefurl=http://fengshuigooddeeds.wordpress.com/&amp;usg=__t8GZ4nhFQarwb7wapSCWipgzJMs=&amp;h=380&amp;w=380&amp;sz=44&amp;hl=en&amp;start=4&amp;zoom=1&amp;tbnid=Mz4Dy2DWFQlEKM:&amp;tbnh=123&amp;tbnw=123&amp;ei=QtXgTvGcCKjw0gG9nrnKCg&amp;prev=/search%3Fq%3Dbig%2Bsmile%26um%3D1%26hl%3Den%26sa%3DX%26gbv%3D2%26tbm%3Disch&amp;um=1&amp;itbs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895480" y="20574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eautiful, Joy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59092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aug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791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743200" y="3352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eeth, Brightness, Darkness,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895480" y="3733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rying, Heart-broken, Disappo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0384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ad, Glo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3434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Nd9GcTZAom-8kUFild3eYD58f1NkVPJC2-wRpn1mPQw0WXpAh8fHwRkOnE5-I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ANd9GcS1DP6zJgP4ogpKjY8NGjUQ0Mq81URjM0DLj4MS4NqVepmndcWG4vz67w"/>
          <p:cNvPicPr/>
          <p:nvPr/>
        </p:nvPicPr>
        <p:blipFill>
          <a:blip r:embed="rId4"/>
          <a:stretch/>
        </p:blipFill>
        <p:spPr>
          <a:xfrm>
            <a:off x="7772400" y="54864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38088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Kristen B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04:09Z</dcterms:created>
  <dc:creator>Communications Division</dc:creator>
  <dc:description/>
  <dc:language>en-US</dc:language>
  <cp:lastModifiedBy>12kbode</cp:lastModifiedBy>
  <dcterms:modified xsi:type="dcterms:W3CDTF">2011-12-08T16:03:11Z</dcterms:modified>
  <cp:revision>5</cp:revision>
  <dc:subject/>
  <dc:title>Slide 1</dc:title>
</cp:coreProperties>
</file>